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jpeg" ContentType="image/jpeg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906480" y="9429840"/>
            <a:ext cx="2039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4763-E3F2-42E2-B4F6-4E2C9B4ED4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ccff"/>
                </a:solidFill>
                <a:latin typeface="Arial"/>
              </a:rPr>
              <a:t>Чем выше уровень финансовой грамотности и интерес к инвестированию, тем оптимистичней оценки ситуации для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овышение инвестиционной культуры не только будет помогать решению «цеховых задач» участников фондового рынка, но может способствовать более адекватному восприятию гражданами экономической ситуации и росту доверия к финансовой систем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ccff"/>
                </a:solidFill>
                <a:latin typeface="Arial"/>
              </a:rPr>
              <a:t>Чем выше уровень финансовой грамотности и интерес к инвестированию, тем оптимистичней оценки ситуации для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овышение инвестиционной культуры не только будет помогать решению «цеховых задач» участников фондового рынка, но может способствовать более адекватному восприятию гражданами экономической ситуации и росту доверия к финансовой систем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чники финансового патернализ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олоски" традиционного советского ментал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зкий уровень финансов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сутствие свежего инвестицио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ок информации о законодательстве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верие финансовой системе и запрос на защиту со стороны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чем нужно информировать в первую очер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уществуют инвестиционные инструменты, какова их суть и возможности, как их выбир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сторона инвестирования: как сделать вложения, кто такие брокеры и УК, по каким критериям их выбирать Финансовая сторона вложений (какие инструменты на какой «кошелек» рассчит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фондовый рынок и как оценивать его состояние, какова его структура и кто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акционера и законодательство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уществуют риски у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ужны знания для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ад в банке (Сбербанк или коммерческий банк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/продажа акций, паев, облигаций, получение дивиден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ние пластиковыми карт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креди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валю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полиса накопительного страх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денег в НП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19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ли: социологическое сопровождение Проекта по инвестиционному просвещению и повышению инвестиционной культуры населения.Задачи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ыделение группы финансово активных россиян и изучение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93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ровня их осведомленности и характера представлений о фондовом рынке и инвестирован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93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х отношения к инвестированию и степени  толерантности к рис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93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х информационных потребност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учение представлений об инвестировании среди  подрост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. Опрос взрослого населения и подрост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ыборк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опали 204 населенных пункта на территории 63 субъектов 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роки проведе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проса: 22 октября-5 ноября 2007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ем выборк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7512 взрослых респондентов (из них 2644 - финансово активные россияне), и 579 подростк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атистическая погрешнос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о опросу взрослых не превышает 2,5%, подростков – 5,0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. Дискуссионные фокус-груп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гио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Москва, Самара и Екатерин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щее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фокус-груп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 12, в каждом городе по 4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роки проведе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окус-групп: с 15 по 20 ноября 2007 год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 типа респондент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 финансово активные россияне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без опыта инвестирова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граждане,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клоняющиеся 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амостоятельному инвестированию/передаче средств в доверительное управление без опыта, граждане,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меющие свежий опыт инвестирован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1800"/>
              </a:lnSpc>
              <a:spcAft>
                <a:spcPts val="1400"/>
              </a:spcAft>
              <a:buClr>
                <a:srgbClr val="80808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т благосостояния населения – ежегодно доходы увеличиваются в среднем на 12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1400"/>
              </a:spcAft>
              <a:buClr>
                <a:srgbClr val="80808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фондового рынк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1400"/>
              </a:spcAft>
              <a:buClr>
                <a:srgbClr val="80808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эффективность традиционных сберегательных инструментов (вклад в банке, хранение денег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1400"/>
              </a:spcAft>
              <a:buClr>
                <a:srgbClr val="80808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ходу исследования на основе ответов на ряд вопросов, «измеряющих» склонность к инвестированию мы выделили группу  людей «потенциальных инвесторов» . Это люди, у которых установка на инвестиционную деятельность выражена в максимальной степени – и это то число граждан, которое фондовый рынок может «мобилизовать»  в относительно недалеком будущем: перспектива их мобилизации, конечно, не год, но ближайшие г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969696"/>
                </a:solidFill>
                <a:latin typeface="Arial"/>
              </a:rPr>
              <a:t>Группы построены на основе </a:t>
            </a:r>
            <a:r>
              <a:rPr b="1" i="1" lang="ru-RU" sz="1000" spc="-1" strike="noStrike">
                <a:solidFill>
                  <a:srgbClr val="969696"/>
                </a:solidFill>
                <a:latin typeface="Arial"/>
              </a:rPr>
              <a:t>«индикатора компетентности», </a:t>
            </a:r>
            <a:r>
              <a:rPr b="0" i="1" lang="ru-RU" sz="1000" spc="-1" strike="noStrike">
                <a:solidFill>
                  <a:srgbClr val="969696"/>
                </a:solidFill>
                <a:latin typeface="Arial"/>
              </a:rPr>
              <a:t> рассчитанного по ответам  респондентов на ряд вопросов, измеряющих уровень финансовой грамотности с помощью метода многомерного шкалирования. Минимальное значение индикатора составило  -2, максимальное +4.69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сведомлены о фондовом рынке лучше, чем в среднем, но также не знают многих фактов об акциях и о том, где их покупаю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нают традиционные инвестиционные инструмен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нают "базовые" факты и сведения об акциях (известные многим еще из школьных учебнико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уровень финансовой грамотности влияю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По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(среди более грамотных больше мужчи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ровень </a:t>
            </a: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образования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доход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(чем они выше, тем больше компетентност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Место жительств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(компетентных больше всего среди москвичей и жителей других мегаполисо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свежего опыта инвест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инвесторов среди знакомых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респонде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 влияю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ыт участия или неучастия в финансовых «пирамида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 С 90-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компан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 потерять ВСЕ в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ения мошенничества и аф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ыплата дивиден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урса акц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сть ситуации в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60A8-FD4C-4358-A7A0-68CE5CEB2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000" y="4013640"/>
            <a:ext cx="89280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3373-BDAE-434F-BEDD-E1D408B08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8000" y="401364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01364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A668-1050-4699-8A77-AE84B9A6A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2874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6600" y="1267920"/>
            <a:ext cx="2874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5560" y="1267920"/>
            <a:ext cx="2874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8000" y="4013640"/>
            <a:ext cx="2874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6600" y="4013640"/>
            <a:ext cx="2874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5560" y="4013640"/>
            <a:ext cx="28746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2BC1-BBED-429F-B542-A0C91C737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998"/>
              </a:lnSpc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56FA-3AB3-4EF3-8B1C-389F6AAA3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454F-60B5-4E58-A2E8-E16EB11E9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6039-8D46-43C0-99AC-5174C0414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4310-10C3-4913-9E3F-5C440EB68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8000" y="43920"/>
            <a:ext cx="892800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4BEB-1AFF-4059-A2F3-DDC316795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401364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E943-9771-4C35-81A0-D8368BB91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01364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1B5A-4BAE-48BA-9D2D-2FB2E5377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000" y="4013640"/>
            <a:ext cx="8928000" cy="25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998"/>
              </a:lnSpc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6270-79D3-4F90-AAE2-4E0F6ABC5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920" y="44280"/>
            <a:ext cx="9074160" cy="93672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lnSpc>
                <a:spcPts val="1998"/>
              </a:lnSpc>
              <a:spcAft>
                <a:spcPts val="2251"/>
              </a:spcAft>
              <a:buClr>
                <a:srgbClr val="d94f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>
              <a:lnSpc>
                <a:spcPts val="1998"/>
              </a:lnSpc>
              <a:spcAft>
                <a:spcPts val="2251"/>
              </a:spcAft>
              <a:buClr>
                <a:srgbClr val="2c5b8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74680">
              <a:lnSpc>
                <a:spcPts val="1998"/>
              </a:lnSpc>
              <a:spcAft>
                <a:spcPts val="2251"/>
              </a:spcAft>
              <a:buClr>
                <a:srgbClr val="ababa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76120">
              <a:lnSpc>
                <a:spcPts val="1998"/>
              </a:lnSpc>
              <a:spcAft>
                <a:spcPts val="2251"/>
              </a:spcAft>
              <a:buClr>
                <a:srgbClr val="ababa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77920">
              <a:lnSpc>
                <a:spcPts val="1998"/>
              </a:lnSpc>
              <a:spcAft>
                <a:spcPts val="2251"/>
              </a:spcAft>
              <a:buClr>
                <a:srgbClr val="ababa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77920">
              <a:lnSpc>
                <a:spcPts val="1998"/>
              </a:lnSpc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77920">
              <a:lnSpc>
                <a:spcPts val="1998"/>
              </a:lnSpc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40644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110120" y="6528960"/>
            <a:ext cx="6062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Arial"/>
              </a:rPr>
              <a:t>с.</a:t>
            </a:r>
            <a:fld id="{42D52C49-7602-4FAC-9EF3-80586F397E1E}" type="slidenum">
              <a:rPr b="0" lang="en-GB" sz="14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920" y="6410160"/>
            <a:ext cx="385920" cy="403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8360" y="6529320"/>
            <a:ext cx="2808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Фонд "Общественное мнение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580000" y="6496200"/>
            <a:ext cx="3311640" cy="245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76320">
            <a:solidFill>
              <a:srgbClr val="d94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76320">
            <a:solidFill>
              <a:srgbClr val="d94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4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2000" y="2522520"/>
            <a:ext cx="784872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4000"/>
              </a:lnSpc>
              <a:spcBef>
                <a:spcPts val="3501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циологическое исследова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ой культуры населения </a:t>
            </a: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6232320"/>
            <a:ext cx="551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тябрь-ноябрь 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560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235080"/>
            <a:ext cx="934920" cy="81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E57A-7EDD-4BDA-8CEA-34E87C0AE9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435640" y="3284640"/>
          <a:ext cx="3311640" cy="27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3284640"/>
                    <a:ext cx="331164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8000" y="1989000"/>
          <a:ext cx="460836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989000"/>
                    <a:ext cx="4608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6560" y="1238400"/>
            <a:ext cx="38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Представления о показателях,  характеризующих текущую ситуацию на российском фондовом рын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20960" y="6093000"/>
            <a:ext cx="358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с к фондовому рынку и представления об этом институ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43640" y="3747960"/>
            <a:ext cx="3492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Спонтанная известность основ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российских бир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372360" y="1989000"/>
          <a:ext cx="2160360" cy="17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2360" y="1989000"/>
                    <a:ext cx="216036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219640" y="1238400"/>
            <a:ext cx="381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Интерес к фондовому рын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1989000"/>
            <a:ext cx="93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/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284640"/>
            <a:ext cx="158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ледя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1916280"/>
            <a:ext cx="165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ят за ситуаций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83640" y="5661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54C0-4D6D-4ADA-AB48-A34CC78089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ансовая культура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недовер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932360" y="1557360"/>
            <a:ext cx="4211640" cy="4941720"/>
            <a:chOff x="4932360" y="1557360"/>
            <a:chExt cx="4211640" cy="4941720"/>
          </a:xfrm>
        </p:grpSpPr>
        <p:grpSp>
          <p:nvGrpSpPr>
            <p:cNvPr id="198" name=""/>
            <p:cNvGrpSpPr/>
            <p:nvPr/>
          </p:nvGrpSpPr>
          <p:grpSpPr>
            <a:xfrm>
              <a:off x="4932360" y="1557360"/>
              <a:ext cx="4211640" cy="3575160"/>
              <a:chOff x="4932360" y="1557360"/>
              <a:chExt cx="4211640" cy="3575160"/>
            </a:xfrm>
          </p:grpSpPr>
          <p:graphicFrame>
            <p:nvGraphicFramePr>
              <p:cNvPr id="199" name=""/>
              <p:cNvGraphicFramePr/>
              <p:nvPr/>
            </p:nvGraphicFramePr>
            <p:xfrm>
              <a:off x="4932360" y="1557360"/>
              <a:ext cx="4103640" cy="3575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32360" y="1557360"/>
                        <a:ext cx="4103640" cy="35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"/>
              <p:cNvSpPr/>
              <p:nvPr/>
            </p:nvSpPr>
            <p:spPr>
              <a:xfrm>
                <a:off x="5040360" y="1773360"/>
                <a:ext cx="410364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2c5b86"/>
                    </a:solidFill>
                    <a:latin typeface="Arial"/>
                  </a:rPr>
                  <a:t>Сегодня обстановка в стране </a:t>
                </a:r>
                <a:r>
                  <a:rPr b="1" i="1" lang="ru-RU" sz="1200" spc="-1" strike="noStrike">
                    <a:solidFill>
                      <a:srgbClr val="2c5b86"/>
                    </a:solidFill>
                    <a:latin typeface="Arial"/>
                  </a:rPr>
                  <a:t>достаточно </a:t>
                </a:r>
                <a:r>
                  <a:rPr b="0" i="1" lang="ru-RU" sz="1200" spc="-1" strike="noStrike">
                    <a:solidFill>
                      <a:srgbClr val="2c5b86"/>
                    </a:solidFill>
                    <a:latin typeface="Arial"/>
                  </a:rPr>
                  <a:t>или </a:t>
                </a:r>
                <a:r>
                  <a:rPr b="1" i="1" lang="ru-RU" sz="1200" spc="-1" strike="noStrike">
                    <a:solidFill>
                      <a:srgbClr val="2c5b86"/>
                    </a:solidFill>
                    <a:latin typeface="Arial"/>
                  </a:rPr>
                  <a:t>недостаточно стабильная</a:t>
                </a:r>
                <a:r>
                  <a:rPr b="0" i="1" lang="ru-RU" sz="1200" spc="-1" strike="noStrike">
                    <a:solidFill>
                      <a:srgbClr val="2c5b86"/>
                    </a:solidFill>
                    <a:latin typeface="Arial"/>
                  </a:rPr>
                  <a:t> для того, чтобы делать инвестици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040360" y="2924280"/>
              <a:ext cx="4103640" cy="3574800"/>
              <a:chOff x="5040360" y="2924280"/>
              <a:chExt cx="4103640" cy="3574800"/>
            </a:xfrm>
          </p:grpSpPr>
          <p:graphicFrame>
            <p:nvGraphicFramePr>
              <p:cNvPr id="203" name=""/>
              <p:cNvGraphicFramePr/>
              <p:nvPr/>
            </p:nvGraphicFramePr>
            <p:xfrm>
              <a:off x="5040360" y="2924280"/>
              <a:ext cx="4103640" cy="3574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040360" y="2924280"/>
                        <a:ext cx="4103640" cy="357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5" name=""/>
              <p:cNvSpPr/>
              <p:nvPr/>
            </p:nvSpPr>
            <p:spPr>
              <a:xfrm>
                <a:off x="5040360" y="4292640"/>
                <a:ext cx="41036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200" spc="-1" strike="noStrike">
                    <a:solidFill>
                      <a:srgbClr val="2c5b86"/>
                    </a:solidFill>
                    <a:latin typeface="Arial"/>
                  </a:rPr>
                  <a:t>В ближайшие год-два года </a:t>
                </a:r>
                <a:r>
                  <a:rPr b="1" i="1" lang="ru-RU" sz="1200" spc="-1" strike="noStrike">
                    <a:solidFill>
                      <a:srgbClr val="2c5b86"/>
                    </a:solidFill>
                    <a:latin typeface="Arial"/>
                  </a:rPr>
                  <a:t>положение дел в экономике</a:t>
                </a:r>
                <a:r>
                  <a:rPr b="0" i="1" lang="ru-RU" sz="1200" spc="-1" strike="noStrike">
                    <a:solidFill>
                      <a:srgbClr val="2c5b86"/>
                    </a:solidFill>
                    <a:latin typeface="Arial"/>
                  </a:rPr>
                  <a:t> России будет 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7308720" y="6021360"/>
            <a:ext cx="183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0920" y="1360440"/>
            <a:ext cx="4608360" cy="1753920"/>
            <a:chOff x="250920" y="1360440"/>
            <a:chExt cx="4608360" cy="1753920"/>
          </a:xfrm>
        </p:grpSpPr>
        <p:sp>
          <p:nvSpPr>
            <p:cNvPr id="208" name=""/>
            <p:cNvSpPr/>
            <p:nvPr/>
          </p:nvSpPr>
          <p:spPr>
            <a:xfrm>
              <a:off x="250920" y="1360440"/>
              <a:ext cx="4608360" cy="823320"/>
            </a:xfrm>
            <a:prstGeom prst="rect">
              <a:avLst/>
            </a:prstGeom>
            <a:solidFill>
              <a:srgbClr val="2c5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щущение нестабильности политической и экономической ситуации, изменчивости «правил игры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0920" y="2565360"/>
              <a:ext cx="4608360" cy="549000"/>
            </a:xfrm>
            <a:prstGeom prst="rect">
              <a:avLst/>
            </a:prstGeom>
            <a:solidFill>
              <a:srgbClr val="2c5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еуверенность в завтрашнем дне и будущем стран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50920" y="3456000"/>
            <a:ext cx="4608360" cy="54900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верие контрагентам и посредникам в финансовой сфе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228D-7BB3-4807-8DB4-CF6F223E7B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ансовая культура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недоверия (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6021360"/>
            <a:ext cx="183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4581360"/>
            <a:ext cx="4608360" cy="82332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бежденность в отсутствии законодательной защиты частного инвес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003640" y="2637000"/>
            <a:ext cx="4032360" cy="3318120"/>
            <a:chOff x="5003640" y="2637000"/>
            <a:chExt cx="4032360" cy="3318120"/>
          </a:xfrm>
        </p:grpSpPr>
        <p:graphicFrame>
          <p:nvGraphicFramePr>
            <p:cNvPr id="215" name=""/>
            <p:cNvGraphicFramePr/>
            <p:nvPr/>
          </p:nvGraphicFramePr>
          <p:xfrm>
            <a:off x="5651640" y="3429000"/>
            <a:ext cx="2950920" cy="244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51640" y="3429000"/>
                      <a:ext cx="2950920" cy="24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5003640" y="2637000"/>
              <a:ext cx="4032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Представления о </a:t>
              </a:r>
              <a:r>
                <a:rPr b="1" i="1" lang="ru-RU" sz="1200" spc="-1" strike="noStrike">
                  <a:solidFill>
                    <a:srgbClr val="2c5b86"/>
                  </a:solidFill>
                  <a:latin typeface="Arial"/>
                </a:rPr>
                <a:t>защищенности законом</a:t>
              </a: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 людей,  вложивших деньги в акции и ПИФ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72360" y="3240000"/>
              <a:ext cx="50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/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3280" y="3141720"/>
              <a:ext cx="1512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кладчики защищены законо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92720" y="5589720"/>
              <a:ext cx="1512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кладчики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не защищены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законо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0920" y="1360440"/>
            <a:ext cx="4608360" cy="82332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щущение нестабильности политической и экономической ситуации, изменчивости «правил игр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565360"/>
            <a:ext cx="4608360" cy="54900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уверенность в завтрашнем дне и будущем стр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3456000"/>
            <a:ext cx="4608360" cy="54900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верие контрагентам и посредникам в финансовой сфе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9C1C-3DC0-4B6E-8E72-56F0B20F3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ансовая культура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финансового патернализ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22560" y="1989000"/>
          <a:ext cx="280836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2560" y="1989000"/>
                    <a:ext cx="2808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547640" y="1344600"/>
            <a:ext cx="5759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Представления о том,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кто должен возмещать убытки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вкладчикам, если стоимость акций резко упад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19640" y="2060640"/>
            <a:ext cx="50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/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3639960"/>
            <a:ext cx="237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ытки должно возместит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2205000"/>
            <a:ext cx="151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икто не обяза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озмещать убы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59120" y="6093000"/>
            <a:ext cx="358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4365720"/>
            <a:ext cx="5905440" cy="9738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Нежелание брать на себя ответ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войственно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2% 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людей с высш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1% 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людей с высокими доход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4% 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потенциальных инвесто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2421000"/>
            <a:ext cx="287280" cy="1008000"/>
          </a:xfrm>
          <a:prstGeom prst="rightArrow">
            <a:avLst>
              <a:gd name="adj1" fmla="val 39037"/>
              <a:gd name="adj2" fmla="val 100000"/>
            </a:avLst>
          </a:prstGeom>
          <a:solidFill>
            <a:srgbClr val="efefed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2421000"/>
            <a:ext cx="2447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тсутствие личной ответственности за свое финансовое пове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6227280" y="2565000"/>
            <a:ext cx="287640" cy="1079640"/>
          </a:xfrm>
          <a:prstGeom prst="rightArrow">
            <a:avLst>
              <a:gd name="adj1" fmla="val 39037"/>
              <a:gd name="adj2" fmla="val 100000"/>
            </a:avLst>
          </a:prstGeom>
          <a:solidFill>
            <a:srgbClr val="efefed"/>
          </a:solidFill>
          <a:ln w="38160">
            <a:solidFill>
              <a:srgbClr val="2c5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2708280"/>
            <a:ext cx="2052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Принятие на себя ответственности за инвест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6DCE-2053-4155-8F82-62F92B1EC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ые потребност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оценка имеющейся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59120" y="6093000"/>
            <a:ext cx="358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8000" y="2492280"/>
            <a:ext cx="4840560" cy="3632400"/>
            <a:chOff x="108000" y="2492280"/>
            <a:chExt cx="4840560" cy="3632400"/>
          </a:xfrm>
        </p:grpSpPr>
        <p:sp>
          <p:nvSpPr>
            <p:cNvPr id="240" name=""/>
            <p:cNvSpPr/>
            <p:nvPr/>
          </p:nvSpPr>
          <p:spPr>
            <a:xfrm>
              <a:off x="3905280" y="3429000"/>
              <a:ext cx="104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 этом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08000" y="2492280"/>
              <a:ext cx="4387680" cy="3632400"/>
              <a:chOff x="108000" y="2492280"/>
              <a:chExt cx="4387680" cy="3632400"/>
            </a:xfrm>
          </p:grpSpPr>
          <p:graphicFrame>
            <p:nvGraphicFramePr>
              <p:cNvPr id="242" name=""/>
              <p:cNvGraphicFramePr/>
              <p:nvPr/>
            </p:nvGraphicFramePr>
            <p:xfrm>
              <a:off x="108000" y="2492280"/>
              <a:ext cx="4387680" cy="36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8000" y="2492280"/>
                        <a:ext cx="4387680" cy="36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4" name=""/>
              <p:cNvSpPr/>
              <p:nvPr/>
            </p:nvSpPr>
            <p:spPr>
              <a:xfrm>
                <a:off x="108000" y="3792600"/>
                <a:ext cx="4103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d94f03"/>
                    </a:solidFill>
                    <a:latin typeface="Arial"/>
                  </a:rPr>
                  <a:t>В СМИ информации об инвестировании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859280" y="2990880"/>
            <a:ext cx="4529160" cy="3751200"/>
            <a:chOff x="4859280" y="2990880"/>
            <a:chExt cx="4529160" cy="3751200"/>
          </a:xfrm>
        </p:grpSpPr>
        <p:graphicFrame>
          <p:nvGraphicFramePr>
            <p:cNvPr id="246" name=""/>
            <p:cNvGraphicFramePr/>
            <p:nvPr/>
          </p:nvGraphicFramePr>
          <p:xfrm>
            <a:off x="4859280" y="2990880"/>
            <a:ext cx="4529160" cy="375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2990880"/>
                      <a:ext cx="4529160" cy="37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4859280" y="3792600"/>
              <a:ext cx="41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d94f03"/>
                  </a:solidFill>
                  <a:latin typeface="Arial"/>
                </a:rPr>
                <a:t>Встречающаяся в СМИ информация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211640" y="1773000"/>
            <a:ext cx="4824360" cy="865080"/>
            <a:chOff x="4211640" y="1773000"/>
            <a:chExt cx="4824360" cy="865080"/>
          </a:xfrm>
        </p:grpSpPr>
        <p:sp>
          <p:nvSpPr>
            <p:cNvPr id="250" name=""/>
            <p:cNvSpPr/>
            <p:nvPr/>
          </p:nvSpPr>
          <p:spPr>
            <a:xfrm>
              <a:off x="4859280" y="1773360"/>
              <a:ext cx="4176720" cy="823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c5b8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2c5b86"/>
                  </a:solidFill>
                  <a:latin typeface="Arial"/>
                </a:rPr>
                <a:t>У финансово активных россиян сформировался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запрос на «экономический ликбез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994920" y="1989720"/>
              <a:ext cx="86508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08000" y="1131840"/>
            <a:ext cx="4103640" cy="2662200"/>
            <a:chOff x="108000" y="1131840"/>
            <a:chExt cx="4103640" cy="2662200"/>
          </a:xfrm>
        </p:grpSpPr>
        <p:graphicFrame>
          <p:nvGraphicFramePr>
            <p:cNvPr id="253" name=""/>
            <p:cNvGraphicFramePr/>
            <p:nvPr/>
          </p:nvGraphicFramePr>
          <p:xfrm>
            <a:off x="719280" y="1773360"/>
            <a:ext cx="2439720" cy="2020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9280" y="1773360"/>
                      <a:ext cx="2439720" cy="20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5" name=""/>
            <p:cNvSpPr/>
            <p:nvPr/>
          </p:nvSpPr>
          <p:spPr>
            <a:xfrm>
              <a:off x="108000" y="1131840"/>
              <a:ext cx="410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d94f03"/>
                  </a:solidFill>
                  <a:latin typeface="Arial"/>
                </a:rPr>
                <a:t>Самооценка имеющихся знаний</a:t>
              </a:r>
              <a:r>
                <a:rPr b="1" lang="en-US" sz="1400" spc="-1" strike="noStrike">
                  <a:solidFill>
                    <a:srgbClr val="d94f03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d94f03"/>
                  </a:solidFill>
                  <a:latin typeface="Arial"/>
                </a:rPr>
                <a:t>об инвестирован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25440" y="1773360"/>
              <a:ext cx="50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/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87640" y="2852640"/>
              <a:ext cx="17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наний недостаточн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36680" y="1773360"/>
              <a:ext cx="1141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наний достаточн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79DE-D537-4F14-BC76-495C306064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мпания по финансовому просвещению: цели, задачи и мет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1192320"/>
            <a:ext cx="4680000" cy="731880"/>
          </a:xfrm>
          <a:prstGeom prst="rect">
            <a:avLst/>
          </a:prstGeom>
          <a:solidFill>
            <a:srgbClr val="d9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просветительской камп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9640" y="2133720"/>
            <a:ext cx="3816360" cy="823320"/>
            <a:chOff x="539640" y="2133720"/>
            <a:chExt cx="3816360" cy="823320"/>
          </a:xfrm>
        </p:grpSpPr>
        <p:sp>
          <p:nvSpPr>
            <p:cNvPr id="262" name=""/>
            <p:cNvSpPr/>
            <p:nvPr/>
          </p:nvSpPr>
          <p:spPr>
            <a:xfrm>
              <a:off x="539640" y="2133720"/>
              <a:ext cx="3384720" cy="823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d94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Привлечение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астных инвесторов на фондовый рыно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67280" y="2133720"/>
              <a:ext cx="288720" cy="647640"/>
            </a:xfrm>
            <a:prstGeom prst="rightArrow">
              <a:avLst>
                <a:gd name="adj1" fmla="val 65685"/>
                <a:gd name="adj2" fmla="val 59889"/>
              </a:avLst>
            </a:prstGeom>
            <a:solidFill>
              <a:srgbClr val="d94f03"/>
            </a:solidFill>
            <a:ln cap="sq" w="12600">
              <a:solidFill>
                <a:srgbClr val="d94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413240" y="2127240"/>
            <a:ext cx="4622760" cy="829800"/>
            <a:chOff x="4413240" y="2127240"/>
            <a:chExt cx="4622760" cy="829800"/>
          </a:xfrm>
        </p:grpSpPr>
        <p:sp>
          <p:nvSpPr>
            <p:cNvPr id="265" name=""/>
            <p:cNvSpPr/>
            <p:nvPr/>
          </p:nvSpPr>
          <p:spPr>
            <a:xfrm>
              <a:off x="4859280" y="2133720"/>
              <a:ext cx="4176720" cy="823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d94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Ограждение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ндового рынка от наплыва некомпетентных инвестор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647600">
              <a:off x="4427280" y="2133000"/>
              <a:ext cx="288720" cy="647640"/>
            </a:xfrm>
            <a:prstGeom prst="rightArrow">
              <a:avLst>
                <a:gd name="adj1" fmla="val 65685"/>
                <a:gd name="adj2" fmla="val 59889"/>
              </a:avLst>
            </a:prstGeom>
            <a:solidFill>
              <a:srgbClr val="d94f03"/>
            </a:solidFill>
            <a:ln cap="sq" w="12600">
              <a:solidFill>
                <a:srgbClr val="d94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40000" y="3274920"/>
            <a:ext cx="4680000" cy="731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просветительской камп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4221000"/>
            <a:ext cx="2447640" cy="54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c5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5b86"/>
                </a:solidFill>
                <a:latin typeface="Arial"/>
              </a:rPr>
              <a:t>Информирование об инвестиров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4221000"/>
            <a:ext cx="2736720" cy="54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c5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5b86"/>
                </a:solidFill>
                <a:latin typeface="Arial"/>
              </a:rPr>
              <a:t>Построение доверия финансовой систем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38920" y="4221000"/>
            <a:ext cx="3097080" cy="54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c5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5b86"/>
                </a:solidFill>
                <a:latin typeface="Arial"/>
              </a:rPr>
              <a:t>Привитие финансовой ответств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8000" y="5445000"/>
            <a:ext cx="8928000" cy="305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ъеди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силий участников фондового  рын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87640" y="5013360"/>
            <a:ext cx="3240000" cy="366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2247840" y="5877000"/>
            <a:ext cx="522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оздание «Партнерской сети» ФБ ММВ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28BF-D5D0-4134-A7BC-59602483D4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4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8000" y="2276280"/>
            <a:ext cx="89280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1998"/>
              </a:lnSpc>
              <a:spcAft>
                <a:spcPts val="4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1998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EE29-CB37-4203-B725-1F079DA895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ая аудитория исследования: финансово активные россия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907920"/>
          <a:ext cx="76327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07920"/>
                    <a:ext cx="76327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06160" y="1552680"/>
            <a:ext cx="28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взрослое насе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38720" y="2619360"/>
            <a:ext cx="358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ансов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ктив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я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4292640"/>
            <a:ext cx="5616720" cy="54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3f3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5b86"/>
                </a:solidFill>
                <a:latin typeface="Arial"/>
              </a:rPr>
              <a:t>имеют деньги, </a:t>
            </a:r>
            <a:r>
              <a:rPr b="0" lang="ru-RU" sz="1800" spc="-1" strike="noStrike">
                <a:solidFill>
                  <a:srgbClr val="2c5b86"/>
                </a:solidFill>
                <a:latin typeface="Arial"/>
              </a:rPr>
              <a:t>остающиеся от повседневных расх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3500280"/>
            <a:ext cx="5616720" cy="54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3f3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b86"/>
                </a:solidFill>
                <a:latin typeface="Arial"/>
              </a:rPr>
              <a:t>в последние год-два </a:t>
            </a:r>
            <a:r>
              <a:rPr b="1" lang="ru-RU" sz="1800" spc="-1" strike="noStrike">
                <a:solidFill>
                  <a:srgbClr val="2c5b86"/>
                </a:solidFill>
                <a:latin typeface="Arial"/>
              </a:rPr>
              <a:t>имели любой современный финансовый 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013360"/>
            <a:ext cx="5616720" cy="54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3f3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b86"/>
                </a:solidFill>
                <a:latin typeface="Arial"/>
              </a:rPr>
              <a:t>задумываются о том, как</a:t>
            </a:r>
            <a:r>
              <a:rPr b="1" lang="ru-RU" sz="1800" spc="-1" strike="noStrike">
                <a:solidFill>
                  <a:srgbClr val="2c5b86"/>
                </a:solidFill>
                <a:latin typeface="Arial"/>
              </a:rPr>
              <a:t> распорядиться свободными деньг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0720" y="306864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36760" y="5805360"/>
            <a:ext cx="630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дрост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перспективная группа для просве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3AB9-DD14-49C9-9AE7-2DFD984CB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8893080" cy="40644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южеты и методы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581360"/>
            <a:ext cx="8353440" cy="16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457200" indent="-457200">
              <a:lnSpc>
                <a:spcPts val="16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b86"/>
                </a:solidFill>
                <a:latin typeface="Arial"/>
              </a:rPr>
              <a:t>1. Опрос финансово активных россия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6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5b8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ка 7512 взрослых россиян, из них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64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инансово актив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6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4 населенных пунктов на территории 63 субъектов Р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6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b86"/>
                </a:solidFill>
                <a:latin typeface="Arial"/>
              </a:rPr>
              <a:t>2. Опрос подростков.</a:t>
            </a:r>
            <a:r>
              <a:rPr b="0" lang="ru-RU" sz="1800" spc="-1" strike="noStrike">
                <a:solidFill>
                  <a:srgbClr val="2c5b8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ка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7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698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c5b86"/>
                </a:solidFill>
                <a:latin typeface="Arial"/>
              </a:rPr>
              <a:t>3. Дискуссионные фокус-группы.</a:t>
            </a:r>
            <a:r>
              <a:rPr b="0" lang="ru-RU" sz="1800" spc="-1" strike="noStrike">
                <a:solidFill>
                  <a:srgbClr val="2c5b8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сква, Самара, Екатеринбург -в каждом городе 4 фокус-группы, всего -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53960"/>
            <a:ext cx="6985080" cy="398520"/>
          </a:xfrm>
          <a:prstGeom prst="rect">
            <a:avLst/>
          </a:prstGeom>
          <a:solidFill>
            <a:srgbClr val="d94f03"/>
          </a:solidFill>
          <a:ln w="9360">
            <a:solidFill>
              <a:srgbClr val="d94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2398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южеты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34920" y="4005360"/>
            <a:ext cx="6985080" cy="3985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ts val="2398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5080" y="1916280"/>
            <a:ext cx="6335640" cy="1871640"/>
          </a:xfrm>
          <a:prstGeom prst="rect">
            <a:avLst/>
          </a:pr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1998"/>
              </a:lnSpc>
              <a:spcAft>
                <a:spcPts val="2001"/>
              </a:spcAft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ки с сфере инвес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Aft>
                <a:spcPts val="2001"/>
              </a:spcAft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финансовой грамот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Aft>
                <a:spcPts val="2001"/>
              </a:spcAft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финансовой куль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Aft>
                <a:spcPts val="2001"/>
              </a:spcAft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е потре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1B86-7763-4F7F-B301-9B9C414089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76720" y="907920"/>
          <a:ext cx="76327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907920"/>
                    <a:ext cx="76327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нансовая активность россиян и потенциал частного инвес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1481040"/>
            <a:ext cx="302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ансово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ктив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я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1509840"/>
            <a:ext cx="1297080" cy="487080"/>
          </a:xfrm>
          <a:prstGeom prst="rect">
            <a:avLst/>
          </a:prstGeom>
          <a:noFill/>
          <a:ln cap="sq" w="38160">
            <a:solidFill>
              <a:srgbClr val="f98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9 млн. 173 тыс. ч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97720" y="6093000"/>
            <a:ext cx="250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всех 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75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6165720"/>
            <a:ext cx="511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 Люди с максимальной  установкой на участие в инвестиционной 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718360"/>
            <a:ext cx="3240000" cy="1526040"/>
          </a:xfrm>
          <a:prstGeom prst="rightArrow">
            <a:avLst>
              <a:gd name="adj1" fmla="val 79741"/>
              <a:gd name="adj2" fmla="val 35936"/>
            </a:avLst>
          </a:prstGeom>
          <a:solidFill>
            <a:srgbClr val="ffffff"/>
          </a:solidFill>
          <a:ln cap="sq" w="12600">
            <a:solidFill>
              <a:srgbClr val="2c5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В последнее время ситуация благоприятствует развитию частного инвест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2788560"/>
            <a:ext cx="2659320" cy="1376280"/>
          </a:xfrm>
          <a:prstGeom prst="leftArrow">
            <a:avLst>
              <a:gd name="adj1" fmla="val 79713"/>
              <a:gd name="adj2" fmla="val 45658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днако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инвестирование не очень популяр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342900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31280" y="551664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8000" y="1125360"/>
            <a:ext cx="10872720" cy="4930920"/>
            <a:chOff x="108000" y="1125360"/>
            <a:chExt cx="10872720" cy="4930920"/>
          </a:xfrm>
        </p:grpSpPr>
        <p:grpSp>
          <p:nvGrpSpPr>
            <p:cNvPr id="84" name=""/>
            <p:cNvGrpSpPr/>
            <p:nvPr/>
          </p:nvGrpSpPr>
          <p:grpSpPr>
            <a:xfrm>
              <a:off x="108000" y="1125360"/>
              <a:ext cx="10872720" cy="4930920"/>
              <a:chOff x="108000" y="1125360"/>
              <a:chExt cx="10872720" cy="4930920"/>
            </a:xfrm>
          </p:grpSpPr>
          <p:graphicFrame>
            <p:nvGraphicFramePr>
              <p:cNvPr id="85" name=""/>
              <p:cNvGraphicFramePr/>
              <p:nvPr/>
            </p:nvGraphicFramePr>
            <p:xfrm>
              <a:off x="3348000" y="1125360"/>
              <a:ext cx="7632720" cy="4930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48000" y="1125360"/>
                        <a:ext cx="7632720" cy="493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7" name=""/>
              <p:cNvGrpSpPr/>
              <p:nvPr/>
            </p:nvGrpSpPr>
            <p:grpSpPr>
              <a:xfrm>
                <a:off x="108000" y="4724280"/>
                <a:ext cx="5978520" cy="1081080"/>
                <a:chOff x="108000" y="4724280"/>
                <a:chExt cx="5978520" cy="1081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26160" y="5229360"/>
                  <a:ext cx="2881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Потенциальные </a:t>
                  </a:r>
                  <a:r>
                    <a:rPr b="1" lang="ru-RU" sz="1600" spc="-1" strike="noStrike">
                      <a:solidFill>
                        <a:srgbClr val="ff3300"/>
                      </a:solidFill>
                      <a:latin typeface="Arial"/>
                    </a:rPr>
                    <a:t>инвесторы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643280" y="5084640"/>
                  <a:ext cx="1290960" cy="487080"/>
                </a:xfrm>
                <a:prstGeom prst="rect">
                  <a:avLst/>
                </a:prstGeom>
                <a:noFill/>
                <a:ln cap="sq" w="38160">
                  <a:solidFill>
                    <a:srgbClr val="ff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5 млн. 911 тыс. чел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08000" y="4724280"/>
                  <a:ext cx="5978520" cy="1081080"/>
                </a:xfrm>
                <a:prstGeom prst="rect">
                  <a:avLst/>
                </a:prstGeom>
                <a:noFill/>
                <a:ln w="28440">
                  <a:solidFill>
                    <a:srgbClr val="ff00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6372360" y="5013360"/>
              <a:ext cx="2232000" cy="639720"/>
            </a:xfrm>
            <a:prstGeom prst="rect">
              <a:avLst/>
            </a:prstGeom>
            <a:noFill/>
            <a:ln cap="sq" w="28440">
              <a:solidFill>
                <a:srgbClr val="ff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альные инвесторы </a:t>
              </a:r>
              <a:r>
                <a:rPr b="1" lang="en-US" sz="1400" spc="-1" strike="noStrike">
                  <a:solidFill>
                    <a:srgbClr val="ff0099"/>
                  </a:solidFill>
                  <a:latin typeface="Arial"/>
                </a:rPr>
                <a:t>407</a:t>
              </a:r>
              <a:r>
                <a:rPr b="1" lang="ru-RU" sz="1400" spc="-1" strike="noStrike">
                  <a:solidFill>
                    <a:srgbClr val="ff0099"/>
                  </a:solidFill>
                  <a:latin typeface="Arial"/>
                </a:rPr>
                <a:t> тыс. чел.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на 1.12.2007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C351-F8C8-4F3F-B70B-401F8034FF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08000" y="1773360"/>
            <a:ext cx="3887640" cy="3448080"/>
            <a:chOff x="108000" y="1773360"/>
            <a:chExt cx="3887640" cy="3448080"/>
          </a:xfrm>
        </p:grpSpPr>
        <p:graphicFrame>
          <p:nvGraphicFramePr>
            <p:cNvPr id="93" name=""/>
            <p:cNvGraphicFramePr/>
            <p:nvPr/>
          </p:nvGraphicFramePr>
          <p:xfrm>
            <a:off x="108000" y="2060640"/>
            <a:ext cx="3816360" cy="316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000" y="2060640"/>
                      <a:ext cx="3816360" cy="316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108000" y="1773360"/>
              <a:ext cx="3887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Если бы Вам позволяли финансовые возможности, Вы бы </a:t>
              </a:r>
              <a:r>
                <a:rPr b="1" i="1" lang="ru-RU" sz="1200" spc="-1" strike="noStrike">
                  <a:solidFill>
                    <a:srgbClr val="2c5b86"/>
                  </a:solidFill>
                  <a:latin typeface="Arial"/>
                </a:rPr>
                <a:t>купили бы </a:t>
              </a: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или </a:t>
              </a:r>
              <a:r>
                <a:rPr b="1" i="1" lang="ru-RU" sz="1200" spc="-1" strike="noStrike">
                  <a:solidFill>
                    <a:srgbClr val="2c5b86"/>
                  </a:solidFill>
                  <a:latin typeface="Arial"/>
                </a:rPr>
                <a:t>не купили</a:t>
              </a: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  </a:t>
              </a:r>
              <a:r>
                <a:rPr b="1" i="1" lang="ru-RU" sz="1200" spc="-1" strike="noStrike" u="sng">
                  <a:solidFill>
                    <a:srgbClr val="2c5b86"/>
                  </a:solidFill>
                  <a:uFillTx/>
                  <a:latin typeface="Arial"/>
                </a:rPr>
                <a:t>акции</a:t>
              </a: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39640" y="117324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Общий интерес к вложения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в акции и ПИф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59120" y="6093000"/>
            <a:ext cx="358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229360"/>
            <a:ext cx="3095640" cy="76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Планируют в течение ближайшего года покупать акции и/или паи ПИфов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% финансово активных  россия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780000" y="1173240"/>
            <a:ext cx="5364000" cy="4922640"/>
            <a:chOff x="3780000" y="1173240"/>
            <a:chExt cx="5364000" cy="4922640"/>
          </a:xfrm>
        </p:grpSpPr>
        <p:grpSp>
          <p:nvGrpSpPr>
            <p:cNvPr id="100" name=""/>
            <p:cNvGrpSpPr/>
            <p:nvPr/>
          </p:nvGrpSpPr>
          <p:grpSpPr>
            <a:xfrm>
              <a:off x="3780000" y="1654200"/>
              <a:ext cx="5364000" cy="4441680"/>
              <a:chOff x="3780000" y="1654200"/>
              <a:chExt cx="5364000" cy="4441680"/>
            </a:xfrm>
          </p:grpSpPr>
          <p:graphicFrame>
            <p:nvGraphicFramePr>
              <p:cNvPr id="101" name=""/>
              <p:cNvGraphicFramePr/>
              <p:nvPr/>
            </p:nvGraphicFramePr>
            <p:xfrm>
              <a:off x="3780000" y="1654200"/>
              <a:ext cx="5364000" cy="444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780000" y="1654200"/>
                        <a:ext cx="5364000" cy="444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3" name=""/>
              <p:cNvSpPr/>
              <p:nvPr/>
            </p:nvSpPr>
            <p:spPr>
              <a:xfrm>
                <a:off x="5148360" y="2637000"/>
                <a:ext cx="3168720" cy="28872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48360" y="3284640"/>
                <a:ext cx="3168720" cy="28872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19640" y="5445000"/>
                <a:ext cx="3168720" cy="2890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859280" y="1173240"/>
              <a:ext cx="4176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d94f03"/>
                  </a:solidFill>
                  <a:latin typeface="Arial"/>
                </a:rPr>
                <a:t>Инвестиционные предпочтения: выбор из различных  финансовых инструмент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инансово активные россияне: предпочитаемые инвестиционные инструмен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67640" y="5589720"/>
            <a:ext cx="468360" cy="43164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36" h="21600">
                <a:moveTo>
                  <a:pt x="0" y="0"/>
                </a:moveTo>
                <a:lnTo>
                  <a:pt x="23436" y="0"/>
                </a:lnTo>
                <a:lnTo>
                  <a:pt x="23436" y="21600"/>
                </a:lnTo>
                <a:lnTo>
                  <a:pt x="0" y="21600"/>
                </a:lnTo>
                <a:close/>
              </a:path>
              <a:path fill="lightenLess" w="23436" h="21600">
                <a:moveTo>
                  <a:pt x="0" y="0"/>
                </a:moveTo>
                <a:lnTo>
                  <a:pt x="23436" y="0"/>
                </a:lnTo>
                <a:lnTo>
                  <a:pt x="22036" y="1400"/>
                </a:lnTo>
                <a:lnTo>
                  <a:pt x="1400" y="1400"/>
                </a:lnTo>
                <a:close/>
              </a:path>
              <a:path fill="darken" w="23436" h="21600">
                <a:moveTo>
                  <a:pt x="23436" y="0"/>
                </a:moveTo>
                <a:lnTo>
                  <a:pt x="23436" y="21600"/>
                </a:lnTo>
                <a:lnTo>
                  <a:pt x="22036" y="20200"/>
                </a:lnTo>
                <a:lnTo>
                  <a:pt x="22036" y="1400"/>
                </a:lnTo>
                <a:close/>
              </a:path>
              <a:path fill="darkenLess" w="23436" h="21600">
                <a:moveTo>
                  <a:pt x="23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36" y="20200"/>
                </a:lnTo>
                <a:close/>
              </a:path>
              <a:path fill="lighten" w="23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8000" y="3500280"/>
            <a:ext cx="3887640" cy="3357720"/>
            <a:chOff x="108000" y="3500280"/>
            <a:chExt cx="3887640" cy="3357720"/>
          </a:xfrm>
        </p:grpSpPr>
        <p:graphicFrame>
          <p:nvGraphicFramePr>
            <p:cNvPr id="110" name=""/>
            <p:cNvGraphicFramePr/>
            <p:nvPr/>
          </p:nvGraphicFramePr>
          <p:xfrm>
            <a:off x="108000" y="3697200"/>
            <a:ext cx="3816360" cy="316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8000" y="3697200"/>
                      <a:ext cx="3816360" cy="316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08000" y="3500280"/>
              <a:ext cx="3887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Если бы Вам позволяли финансовые возможности, Вы бы </a:t>
              </a:r>
              <a:r>
                <a:rPr b="1" i="1" lang="ru-RU" sz="1200" spc="-1" strike="noStrike">
                  <a:solidFill>
                    <a:srgbClr val="2c5b86"/>
                  </a:solidFill>
                  <a:latin typeface="Arial"/>
                </a:rPr>
                <a:t>купили бы </a:t>
              </a: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или </a:t>
              </a:r>
              <a:r>
                <a:rPr b="1" i="1" lang="ru-RU" sz="1200" spc="-1" strike="noStrike">
                  <a:solidFill>
                    <a:srgbClr val="2c5b86"/>
                  </a:solidFill>
                  <a:latin typeface="Arial"/>
                </a:rPr>
                <a:t>не купили</a:t>
              </a:r>
              <a:r>
                <a:rPr b="0" i="1" lang="ru-RU" sz="1200" spc="-1" strike="noStrike">
                  <a:solidFill>
                    <a:srgbClr val="2c5b86"/>
                  </a:solidFill>
                  <a:latin typeface="Arial"/>
                </a:rPr>
                <a:t> </a:t>
              </a:r>
              <a:r>
                <a:rPr b="1" i="1" lang="ru-RU" sz="1200" spc="-1" strike="noStrike" u="sng">
                  <a:solidFill>
                    <a:srgbClr val="2c5b86"/>
                  </a:solidFill>
                  <a:uFillTx/>
                  <a:latin typeface="Arial"/>
                </a:rPr>
                <a:t>паи ПИФа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2F7E-F164-4CAC-9133-C9973D43B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потетические стратегии поведения на фондов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42920" y="1773360"/>
          <a:ext cx="222264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22226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42920" y="4437000"/>
          <a:ext cx="222264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437000"/>
                    <a:ext cx="22226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84720" y="4437000"/>
          <a:ext cx="2224080" cy="18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4437000"/>
                    <a:ext cx="222408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08000" y="1163520"/>
            <a:ext cx="410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Ориентация на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самостоятельное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4f03"/>
                </a:solidFill>
                <a:latin typeface="Arial"/>
              </a:rPr>
              <a:t>vs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доверительное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 управление  вложени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16360" y="1413000"/>
          <a:ext cx="4319640" cy="35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1413000"/>
                    <a:ext cx="4319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616720" y="1125360"/>
            <a:ext cx="352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Сроки влож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59120" y="6093000"/>
            <a:ext cx="358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88000" y="3792600"/>
            <a:ext cx="334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Ориентация на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дивиденды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4f03"/>
                </a:solidFill>
                <a:latin typeface="Arial"/>
              </a:rPr>
              <a:t>vs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спекуляцию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1773360"/>
            <a:ext cx="50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/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4508640"/>
            <a:ext cx="50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/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437000"/>
            <a:ext cx="50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/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3068640"/>
            <a:ext cx="155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1773360"/>
            <a:ext cx="143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е 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5734080"/>
            <a:ext cx="15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зкий доход и низкий р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516640"/>
            <a:ext cx="137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4653000"/>
            <a:ext cx="12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куля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581360"/>
            <a:ext cx="15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ий доход и высокий р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686040"/>
            <a:ext cx="33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Ориентация на высокий доход при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высоком  риске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4f03"/>
                </a:solidFill>
                <a:latin typeface="Arial"/>
              </a:rPr>
              <a:t>vs </a:t>
            </a: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низкий риск при </a:t>
            </a:r>
            <a:r>
              <a:rPr b="1" lang="ru-RU" sz="1400" spc="-1" strike="noStrike" u="sng">
                <a:solidFill>
                  <a:srgbClr val="d94f03"/>
                </a:solidFill>
                <a:uFillTx/>
                <a:latin typeface="Arial"/>
              </a:rPr>
              <a:t>низком дохо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98920" y="3068640"/>
            <a:ext cx="2520720" cy="1081080"/>
            <a:chOff x="3598920" y="3068640"/>
            <a:chExt cx="2520720" cy="1081080"/>
          </a:xfrm>
        </p:grpSpPr>
        <p:sp>
          <p:nvSpPr>
            <p:cNvPr id="137" name="Text Box 24"/>
            <p:cNvSpPr/>
            <p:nvPr/>
          </p:nvSpPr>
          <p:spPr>
            <a:xfrm>
              <a:off x="4102200" y="3236760"/>
              <a:ext cx="15127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Arial"/>
                </a:rPr>
                <a:t>У большинства  – ориентация на "пассивное" инвес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8920" y="3068640"/>
              <a:ext cx="2520720" cy="1081080"/>
            </a:xfrm>
            <a:custGeom>
              <a:avLst/>
              <a:gdLst>
                <a:gd name="textAreaLeft" fmla="*/ 414000 w 2520720"/>
                <a:gd name="textAreaRight" fmla="*/ 2106720 w 252072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50" y="0"/>
                  </a:moveTo>
                  <a:lnTo>
                    <a:pt x="18050" y="0"/>
                  </a:lnTo>
                  <a:lnTo>
                    <a:pt x="18050" y="6090"/>
                  </a:lnTo>
                  <a:lnTo>
                    <a:pt x="19002" y="6090"/>
                  </a:lnTo>
                  <a:lnTo>
                    <a:pt x="19002" y="5500"/>
                  </a:lnTo>
                  <a:lnTo>
                    <a:pt x="21600" y="10800"/>
                  </a:lnTo>
                  <a:lnTo>
                    <a:pt x="19002" y="16100"/>
                  </a:lnTo>
                  <a:lnTo>
                    <a:pt x="19002" y="15510"/>
                  </a:lnTo>
                  <a:lnTo>
                    <a:pt x="18050" y="15510"/>
                  </a:lnTo>
                  <a:lnTo>
                    <a:pt x="18050" y="21600"/>
                  </a:lnTo>
                  <a:lnTo>
                    <a:pt x="3550" y="21600"/>
                  </a:lnTo>
                  <a:lnTo>
                    <a:pt x="3550" y="15510"/>
                  </a:lnTo>
                  <a:lnTo>
                    <a:pt x="2598" y="15510"/>
                  </a:lnTo>
                  <a:lnTo>
                    <a:pt x="2598" y="16100"/>
                  </a:lnTo>
                  <a:lnTo>
                    <a:pt x="0" y="10800"/>
                  </a:lnTo>
                  <a:lnTo>
                    <a:pt x="2598" y="5500"/>
                  </a:lnTo>
                  <a:lnTo>
                    <a:pt x="2598" y="6090"/>
                  </a:lnTo>
                  <a:lnTo>
                    <a:pt x="3550" y="6090"/>
                  </a:lnTo>
                  <a:close/>
                </a:path>
              </a:pathLst>
            </a:custGeom>
            <a:noFill/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669B-EB06-45A0-8F66-34D4C3644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675640" y="159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вень инвестиционной грамотности финансово активных россия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6165720"/>
            <a:ext cx="36720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87640" y="4005360"/>
          <a:ext cx="483696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7640" y="4005360"/>
                    <a:ext cx="48369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232000" y="5589720"/>
            <a:ext cx="5761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 большинства финансово активных россиян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зкий уровень финансовой грамо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111640" y="3861000"/>
            <a:ext cx="432000" cy="302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78840 h 3025440"/>
              <a:gd name="textAreaBottom" fmla="*/ 2946600 h 30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4"/>
                </a:lnTo>
                <a:cubicBezTo>
                  <a:pt x="10800" y="9974"/>
                  <a:pt x="5400" y="10874"/>
                  <a:pt x="0" y="10874"/>
                </a:cubicBezTo>
                <a:cubicBezTo>
                  <a:pt x="5400" y="10874"/>
                  <a:pt x="10800" y="11774"/>
                  <a:pt x="10800" y="1267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9280" y="3789360"/>
            <a:ext cx="741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Группы респондентов, выделенные по уровню финансовой  компетент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522440"/>
            <a:ext cx="7920000" cy="487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о осведомлены о современных реалиях финансового рынка и новых финансовых инструмен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205000"/>
            <a:ext cx="7994880" cy="487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нают о сути инвестиционной деятельности и о ее формально-процессуальной сторо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925720"/>
            <a:ext cx="7993080" cy="243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осведомлены о фондовом рынке и его институ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3284640"/>
            <a:ext cx="7993080" cy="243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накомы с законодательством в этой сфе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75640" y="2276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75640" y="2852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75640" y="328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DA17-24A3-4FD6-92B6-6AF5C6A085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892800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способы инвестирования известны финансово активным россиян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59280" y="1773360"/>
          <a:ext cx="503856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73360"/>
                    <a:ext cx="503856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276720" y="4653000"/>
            <a:ext cx="4894200" cy="1224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6165720"/>
            <a:ext cx="3600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1344600"/>
            <a:ext cx="53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Известность инвестиционных инструмен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4653000"/>
            <a:ext cx="360360" cy="1179360"/>
          </a:xfrm>
          <a:prstGeom prst="rightArrow">
            <a:avLst>
              <a:gd name="adj1" fmla="val 39037"/>
              <a:gd name="adj2" fmla="val 100000"/>
            </a:avLst>
          </a:prstGeom>
          <a:solidFill>
            <a:srgbClr val="efefed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4724280"/>
            <a:ext cx="2592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Большинство финансово активных россия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НЕ ЗНАЕТ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о современных инвестиционных инструмент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989000"/>
            <a:ext cx="288720" cy="1008360"/>
          </a:xfrm>
          <a:prstGeom prst="rightArrow">
            <a:avLst>
              <a:gd name="adj1" fmla="val 39037"/>
              <a:gd name="adj2" fmla="val 100000"/>
            </a:avLst>
          </a:prstGeom>
          <a:solidFill>
            <a:srgbClr val="efefed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2205000"/>
            <a:ext cx="230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969696"/>
                </a:solidFill>
                <a:latin typeface="Arial"/>
              </a:rPr>
              <a:t>Лучше всего известны самые консервативные инструмен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2133720"/>
            <a:ext cx="4894200" cy="86364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2720" y="5516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46BE-D197-419F-902A-8D17FB3B4D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08000" y="1889280"/>
          <a:ext cx="511164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89280"/>
                    <a:ext cx="511164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08000" y="1344600"/>
            <a:ext cx="424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Куда обращаться обычным людям, чтобы  купить а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51120" y="6165720"/>
            <a:ext cx="358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Данные в % от финансово активных россиян, </a:t>
            </a:r>
            <a:r>
              <a:rPr b="0" i="1" lang="en-US" sz="1200" spc="-1" strike="noStrike">
                <a:solidFill>
                  <a:srgbClr val="969696"/>
                </a:solidFill>
                <a:latin typeface="Times New Roman"/>
              </a:rPr>
              <a:t>N=2644</a:t>
            </a:r>
            <a:r>
              <a:rPr b="0" i="1" lang="ru-RU" sz="12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51640" y="2133720"/>
          <a:ext cx="2520720" cy="20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2133720"/>
                    <a:ext cx="25207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001080" cy="812880"/>
          </a:xfrm>
          <a:prstGeom prst="rect">
            <a:avLst/>
          </a:prstGeom>
          <a:solidFill>
            <a:srgbClr val="2c5b8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90440"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я о современных реалиях функционирования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70520" y="1344600"/>
            <a:ext cx="4173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За счет чего сегодня можно получить больший доход от а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3274920"/>
            <a:ext cx="1511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счет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родажи при повышении их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205000"/>
            <a:ext cx="134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счет дивиден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1806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/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4581360"/>
            <a:ext cx="4535280" cy="973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c5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d94f0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О налоге с прибыли от перепродажи акций -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5%,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4f0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О налоге с дивидендов –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9%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94f0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c5b86"/>
                </a:solidFill>
                <a:latin typeface="Arial"/>
              </a:rPr>
              <a:t>О бездокументарной форме акций -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2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3321000"/>
            <a:ext cx="2592360" cy="1366920"/>
          </a:xfrm>
          <a:prstGeom prst="rect">
            <a:avLst/>
          </a:prstGeom>
          <a:noFill/>
          <a:ln w="28440">
            <a:solidFill>
              <a:srgbClr val="2c5b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70520" y="4221000"/>
            <a:ext cx="417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4f03"/>
                </a:solidFill>
                <a:latin typeface="Arial"/>
              </a:rPr>
              <a:t>Знают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75640" y="5805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3f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4405-2865-4129-A8C6-7E71DAE51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еснякова</dc:creator>
  <dc:description/>
  <dc:language>en-US</dc:language>
  <cp:lastModifiedBy>presnyakova</cp:lastModifiedBy>
  <dcterms:modified xsi:type="dcterms:W3CDTF">2008-01-21T15:24:15Z</dcterms:modified>
  <cp:revision>4483</cp:revision>
  <dc:subject/>
  <dc:title>ФОМ отчет</dc:title>
</cp:coreProperties>
</file>