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8C5-CE30-4FDF-ACE4-AE3CCE4D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C71-D48F-4E84-953F-FB78CBEB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F6F-9F78-4807-A27E-69AED664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036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344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036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344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BCF-CD36-4FD7-B501-C2A69B80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63280" y="277920"/>
            <a:ext cx="7093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5A0-5882-46E4-97FE-F508B7CF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036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7344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8728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036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7344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A3FE-C91B-4616-A4C1-82CFD101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C80F-EF2C-403F-827B-C7F93958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8F26-AA9D-4A68-9C82-F1ED942F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B963-C7D0-4213-A3F8-EF394443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F685-E542-4A7E-A6AA-BF80ACA5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3B6-8E2E-40F7-A7FC-B1930CE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63280" y="277920"/>
            <a:ext cx="7093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0444-4748-4113-ACBE-2B834635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A184-6F1E-417C-BE5D-4BDE730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BD9-3CC0-40B0-A434-65684672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DF46-AAB1-43AA-8F7B-F39F5470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B456-A580-4008-B797-F8BCC815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8061-464A-4F36-A48B-4C27D3CA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8036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7344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8728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8036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7344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0F2A-8FC5-4168-A3FC-FECB8C94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A0A9-26E0-4D3F-BB9C-30A7D469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6AFE9-51EE-44A2-8765-9BD9E5C4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B3F8-4EFF-44E6-B2D1-8E69801E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BB5-3F66-41CE-8BEC-96013E7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2BA1-CCFA-40B5-91FE-6B65F780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9CB0-32DB-46A9-A5C3-A7683EA8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763280" y="277920"/>
            <a:ext cx="7093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DD1B-9171-4628-A648-F2323090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67352-BDDD-4ADB-85B0-701F55AB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DB1C-AB7C-4435-B1CD-F765194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CC1F-6DFE-412F-8383-F3BF268E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D4DF-BF14-4004-9DCC-A36ABC7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8CDA-4836-422D-B93A-3CC03EE2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78036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7344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18728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78036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7344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3215-055B-46A6-88ED-E447F479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0F0D-47D2-4526-A30F-999E24B4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223-47A9-49F5-8675-39DD411F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9797-8AF5-4737-BBE2-1D0D13D5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05095-8E7E-4FF8-BB18-D95AC3F8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4C61A-A8B1-493A-953A-D5B50E30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ABD25-9EB0-4EE4-908E-1C43B2CE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763280" y="277920"/>
            <a:ext cx="7093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EC0F-EC7A-4D8B-A91C-DA87F89F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314F-C4F7-492E-A49E-9A37EBF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5285-1C08-4CBA-BB75-AAFB454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F45D7-93EE-4890-B33E-413768A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37B7-D974-479D-B6D8-7D658C43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738A5-B1BD-448E-9A8A-9DDA55A4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3280" y="277920"/>
            <a:ext cx="7093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923-7E51-496A-9B58-CEBE11B6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78036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73440" y="15998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8728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78036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73440" y="4172040"/>
            <a:ext cx="24692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1660-0C66-4F33-AD01-9ECF4C48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BBE-CF83-49DA-A733-EC498E0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7400" y="41720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C5A-7128-407C-864D-EFD5B352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599840"/>
            <a:ext cx="374256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72040"/>
            <a:ext cx="766944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1D1-D39C-4A7B-AD0D-8DA2D189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873000"/>
            <a:ext cx="709308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Click to edit the title text format</a:t>
            </a: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2023920"/>
            <a:ext cx="8497800" cy="40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c6d4e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69960" indent="-325440">
              <a:spcBef>
                <a:spcPts val="550"/>
              </a:spcBef>
              <a:buClr>
                <a:srgbClr val="ff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39920" indent="-316080">
              <a:spcBef>
                <a:spcPts val="550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681200" indent="-339840">
              <a:spcBef>
                <a:spcPts val="550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280"/>
            <a:ext cx="28958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Click to edit the title text format</a:t>
            </a: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c6d4e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69960" indent="-325440">
              <a:spcBef>
                <a:spcPts val="550"/>
              </a:spcBef>
              <a:buClr>
                <a:srgbClr val="ff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39920" indent="-316080">
              <a:spcBef>
                <a:spcPts val="550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681200" indent="-339840">
              <a:spcBef>
                <a:spcPts val="550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881360"/>
            <a:ext cx="9144000" cy="499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Click to edit the title text format</a:t>
            </a: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c6d4e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69960" indent="-325440">
              <a:spcBef>
                <a:spcPts val="550"/>
              </a:spcBef>
              <a:buClr>
                <a:srgbClr val="ff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39920" indent="-316080">
              <a:spcBef>
                <a:spcPts val="550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681200" indent="-339840">
              <a:spcBef>
                <a:spcPts val="550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524280"/>
            <a:ext cx="28958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524280"/>
            <a:ext cx="2133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640720" y="6377040"/>
          <a:ext cx="47304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40720" y="6377040"/>
                    <a:ext cx="473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Click to edit the title text format</a:t>
            </a: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c6d4e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69960" indent="-325440">
              <a:spcBef>
                <a:spcPts val="550"/>
              </a:spcBef>
              <a:buClr>
                <a:srgbClr val="ff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39920" indent="-316080">
              <a:spcBef>
                <a:spcPts val="550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681200" indent="-339840">
              <a:spcBef>
                <a:spcPts val="550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524280"/>
            <a:ext cx="2133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524280"/>
            <a:ext cx="28958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524280"/>
            <a:ext cx="2133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604360" y="6350040"/>
          <a:ext cx="5079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04360" y="6350040"/>
                    <a:ext cx="507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640720" y="6377040"/>
          <a:ext cx="47304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40720" y="6377040"/>
                    <a:ext cx="473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Click to edit the title text format</a:t>
            </a: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c6d4e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69960" indent="-325440">
              <a:spcBef>
                <a:spcPts val="550"/>
              </a:spcBef>
              <a:buClr>
                <a:srgbClr val="ff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39920" indent="-316080">
              <a:spcBef>
                <a:spcPts val="550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681200" indent="-339840">
              <a:spcBef>
                <a:spcPts val="550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524280"/>
            <a:ext cx="2133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524280"/>
            <a:ext cx="28958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4280"/>
            <a:ext cx="2133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640720" y="6377040"/>
          <a:ext cx="473040" cy="47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40720" y="6377040"/>
                    <a:ext cx="473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42920" y="1600200"/>
            <a:ext cx="76694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22536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1" lang="ru-RU" sz="4200" spc="-1" strike="noStrike">
                <a:solidFill>
                  <a:srgbClr val="4c6d80"/>
                </a:solidFill>
                <a:latin typeface="Bookman Old Style"/>
              </a:rPr>
              <a:t>Раздел 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  </a:t>
            </a: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"Иннокентьевская слобода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  </a:t>
            </a: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и национальный проек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"Доступное жилье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9999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Придание "политического веса" проекту, перевод его из внутрирегионального масштаба в общероссийский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Признание целесообразным и правильным использование схем, реализуемых в проекте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Уменьшение взяткоемкости проекта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Ресурс национального проекта помог привлечь внимание людей, вызвать их доверие и объяснить смысл организационных и финансовых схем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Привлечение экспертов, конструктивная доработка ряда схем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5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6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189000"/>
            <a:ext cx="65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3.1.2. Национальный проект для </a:t>
            </a:r>
            <a:br>
              <a:rPr sz="2000"/>
            </a:b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"Иннокентьевской слобод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42920" y="1600200"/>
            <a:ext cx="76694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24000" y="2816280"/>
            <a:ext cx="75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c6d80"/>
                </a:solidFill>
                <a:latin typeface="Bookman Old Style"/>
              </a:rPr>
              <a:t>3.2. "Иннокентьевская слобода" для национального проекта "Доступное жиль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87280" y="1744560"/>
            <a:ext cx="7669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Практическая проработка стратегий по </a:t>
            </a:r>
            <a:r>
              <a:rPr b="0" i="1" lang="ru-RU" sz="2200" spc="-1" strike="noStrike">
                <a:solidFill>
                  <a:srgbClr val="ff6600"/>
                </a:solidFill>
                <a:latin typeface="Bookman Old Style"/>
              </a:rPr>
              <a:t>расширению целевого рынка 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строящегося жилья, т.е. увеличение доли тех, кто способен приобрести квартиру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Предметное обсуждение возможности </a:t>
            </a:r>
            <a:r>
              <a:rPr b="0" i="1" lang="ru-RU" sz="2200" spc="-1" strike="noStrike">
                <a:solidFill>
                  <a:srgbClr val="ff6600"/>
                </a:solidFill>
                <a:latin typeface="Bookman Old Style"/>
              </a:rPr>
              <a:t>тиражировать схемы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, заложенные в проект "Иннокентьевская слобода"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Возможность решить основную задачу НП: </a:t>
            </a:r>
            <a:r>
              <a:rPr b="0" i="1" lang="ru-RU" sz="2200" spc="-1" strike="noStrike">
                <a:solidFill>
                  <a:srgbClr val="ff6600"/>
                </a:solidFill>
                <a:latin typeface="Bookman Old Style"/>
              </a:rPr>
              <a:t>строить не менее 1 кв. м 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на человека в год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2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9280" y="189000"/>
            <a:ext cx="65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2.1. Расширение целевого рынка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Создание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концепции доступности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жилья в привязке к уровню средней заработной платы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Вводится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нормативно определенное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и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алгоритмически проработанное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понятие "доступного жилья"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Появляется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методология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для стратификации жилья и жилищных программ ("коммерческое", "доступное", "социальное") по четким и практичным критериям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Практическое выявление сложностей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, "узких мест" и проработка возможных решений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5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189000"/>
            <a:ext cx="65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2.2. Практическая проработка концепции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доступности жилья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87280" y="1816200"/>
            <a:ext cx="76694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Обоснование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связи ипотечных программ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и программ по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строительству доступного жилья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.  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Обсуждение возможных направлений по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развитию ипотеки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(ипотечный заказчик – государственная жилищная корпорация)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Аргумент в пользу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изменения функций АИЖК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– в качестве института развития рынка доступного жилья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Аргумент в пользу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федерального ипотечного стандарта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АИЖК – сопротивление ипотечным программам с высоким риском дефолтов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8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2.3. Перспектива развития ипотечных программ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6600"/>
                </a:solidFill>
                <a:latin typeface="Bookman Old Style"/>
              </a:rPr>
              <a:t>Уход от субсидиарных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 (дотационных) </a:t>
            </a:r>
            <a:r>
              <a:rPr b="0" i="1" lang="ru-RU" sz="2200" spc="-1" strike="noStrike">
                <a:solidFill>
                  <a:srgbClr val="ff6600"/>
                </a:solidFill>
                <a:latin typeface="Bookman Old Style"/>
              </a:rPr>
              <a:t>стратегий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 на рынке строительства жилья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375"/>
              </a:spcBef>
              <a:buClr>
                <a:srgbClr val="4c6d8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Возможность </a:t>
            </a:r>
            <a:r>
              <a:rPr b="0" i="1" lang="ru-RU" sz="2200" spc="-1" strike="noStrike">
                <a:solidFill>
                  <a:srgbClr val="ff6600"/>
                </a:solidFill>
                <a:latin typeface="Bookman Old Style"/>
              </a:rPr>
              <a:t>развивать конкуренцию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 в сфере жилищного строительства, условия для де-монополизации местных рынков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001"/>
              </a:spcBef>
              <a:buClr>
                <a:srgbClr val="4c6d8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c6d80"/>
                </a:solidFill>
                <a:latin typeface="Bookman Old Style"/>
              </a:rPr>
              <a:t>Поскольку в сфере муниципального строительства нет рынка как такового, административный ресурс здесь необходимо совмещать с развитием системы и инфраструктуры рыночных механизмов.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001"/>
              </a:spcBef>
              <a:buClr>
                <a:srgbClr val="4c6d80"/>
              </a:buClr>
              <a:buSzPct val="65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c6d80"/>
                </a:solidFill>
                <a:latin typeface="Bookman Old Style"/>
              </a:rPr>
              <a:t>Госзаказчик в лице госкорпорации и ее региональных представительств необходим до тех пор, пока не разовьется рыночная институциональная инфраструктура.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1001"/>
              </a:spcBef>
              <a:buClr>
                <a:srgbClr val="4c6d80"/>
              </a:buClr>
              <a:buSzPct val="65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c6d80"/>
                </a:solidFill>
                <a:latin typeface="Bookman Old Style"/>
              </a:rPr>
              <a:t>Возможность загодя ввести в обиход рыночные механизмы – до того момента, когда уже не будет необходимости проводить конкурсы на строительство по госзаказу и за счет бюджетных денег.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1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18900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2.4. Перспектива развития рыночных механизмов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в сфере жилищного строительства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42920" y="1600200"/>
            <a:ext cx="76694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38200" y="2816280"/>
            <a:ext cx="73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6d80"/>
                </a:solidFill>
                <a:latin typeface="Bookman Old Style"/>
              </a:rPr>
              <a:t>3.3. Ипотечные заемщики о национальном проекте "Доступное жилье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186920" y="1566360"/>
            <a:ext cx="78138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Ипотечные заемщики являются </a:t>
            </a:r>
            <a:r>
              <a:rPr b="1" i="1" lang="ru-RU" sz="2000" spc="-1" strike="noStrike">
                <a:solidFill>
                  <a:srgbClr val="4c6d80"/>
                </a:solidFill>
                <a:latin typeface="Bookman Old Style"/>
              </a:rPr>
              <a:t>основным субъектом формирования оценок и суждений </a:t>
            </a: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о</a:t>
            </a:r>
            <a:r>
              <a:rPr b="1" i="1" lang="ru-RU" sz="2000" spc="-1" strike="noStrike">
                <a:solidFill>
                  <a:srgbClr val="4c6d8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национальном проекте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Они </a:t>
            </a:r>
            <a:r>
              <a:rPr b="1" i="1" lang="ru-RU" sz="2000" spc="-1" strike="noStrike">
                <a:solidFill>
                  <a:srgbClr val="4c6d80"/>
                </a:solidFill>
                <a:latin typeface="Bookman Old Style"/>
              </a:rPr>
              <a:t>хорошо информированы </a:t>
            </a: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о проблемах и обстоятельствах строительства "Иннокентьесвской слободы", т.к. среди них много бюджетников, работников администрации, МВД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Строительство "Иннокентьевской слободы" ипотечные заемщики воспринимают в качестве пилотного проекта в рамках НП "Доступное жилье" и хорошо </a:t>
            </a:r>
            <a:r>
              <a:rPr b="1" i="1" lang="ru-RU" sz="2000" spc="-1" strike="noStrike">
                <a:solidFill>
                  <a:srgbClr val="4c6d80"/>
                </a:solidFill>
                <a:latin typeface="Bookman Old Style"/>
              </a:rPr>
              <a:t>разбираются в природе достижений и возникающих проблем</a:t>
            </a: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: за что отвечают организаторы, за что – областная власть, за что – федеральная власть в лице НП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8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3.1. Интерес и информированность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186920" y="1494000"/>
            <a:ext cx="7813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Отношение ипотечных заемщиков – участников проекта  "Иннокентьевская слобода" к НП в целом аналогично отношению к нему россиян в среднем (по данным опросов ФОМ 2006-07 гг.)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6d8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6d80"/>
                </a:solidFill>
                <a:latin typeface="Bookman Old Style"/>
              </a:rPr>
              <a:t>Мотивы </a:t>
            </a:r>
            <a:r>
              <a:rPr b="1" i="1" lang="ru-RU" sz="1800" spc="-1" strike="noStrike">
                <a:solidFill>
                  <a:srgbClr val="4c6d80"/>
                </a:solidFill>
                <a:latin typeface="Bookman Old Style"/>
              </a:rPr>
              <a:t>положительного</a:t>
            </a:r>
            <a:r>
              <a:rPr b="0" lang="ru-RU" sz="1800" spc="-1" strike="noStrike">
                <a:solidFill>
                  <a:srgbClr val="4c6d80"/>
                </a:solidFill>
                <a:latin typeface="Bookman Old Style"/>
              </a:rPr>
              <a:t> отношения: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- намерение государства решать одну из наиболее актуальных 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проблем; </a:t>
            </a:r>
            <a:endParaRPr b="0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- государственный контроль за структурами, непосредственно 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реализующими НП;</a:t>
            </a:r>
            <a:endParaRPr b="0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- уменьшение коррупции в строительстве.</a:t>
            </a:r>
            <a:endParaRPr b="0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6d80"/>
                </a:solidFill>
                <a:latin typeface="Bookman Old Style"/>
              </a:rPr>
              <a:t>Мотивы </a:t>
            </a:r>
            <a:r>
              <a:rPr b="1" i="1" lang="ru-RU" sz="1800" spc="-1" strike="noStrike">
                <a:solidFill>
                  <a:srgbClr val="4c6d80"/>
                </a:solidFill>
                <a:latin typeface="Bookman Old Style"/>
              </a:rPr>
              <a:t>скептического</a:t>
            </a:r>
            <a:r>
              <a:rPr b="0" lang="ru-RU" sz="1800" spc="-1" strike="noStrike">
                <a:solidFill>
                  <a:srgbClr val="4c6d80"/>
                </a:solidFill>
                <a:latin typeface="Bookman Old Style"/>
              </a:rPr>
              <a:t> отношения: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- недостаток информации о нормах и правилах, заложенных 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непосредственно в нацпроект;</a:t>
            </a:r>
            <a:endParaRPr b="0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- сомнения в "статусе" НП – не проект реальных действий, а 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идеологический;</a:t>
            </a:r>
            <a:endParaRPr b="0" lang="en-US" sz="15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- сомнения в обеспеченности нацпроекта ресурсами –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1500" spc="-1" strike="noStrike">
                <a:solidFill>
                  <a:srgbClr val="4c6d80"/>
                </a:solidFill>
                <a:latin typeface="Bookman Old Style"/>
              </a:rPr>
              <a:t>организационными, юридическими, финансовыми. </a:t>
            </a:r>
            <a:endParaRPr b="0" lang="en-US" sz="15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1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7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19280" y="189000"/>
            <a:ext cx="70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3.2. Мотивация положительног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отрицательного отношения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186920" y="1494000"/>
            <a:ext cx="7813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Отношение к нацпроекту и ситуация на стройке взаимосвязаны: если прежде связь с НП была </a:t>
            </a:r>
            <a:r>
              <a:rPr b="1" i="1" lang="ru-RU" sz="2200" spc="-1" strike="noStrike">
                <a:solidFill>
                  <a:srgbClr val="ff6600"/>
                </a:solidFill>
                <a:latin typeface="Bookman Old Style"/>
              </a:rPr>
              <a:t>ресурсом позитивного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 </a:t>
            </a:r>
            <a:r>
              <a:rPr b="1" i="1" lang="ru-RU" sz="2200" spc="-1" strike="noStrike">
                <a:solidFill>
                  <a:srgbClr val="ff6600"/>
                </a:solidFill>
                <a:latin typeface="Bookman Old Style"/>
              </a:rPr>
              <a:t>отношения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 к проекту "Слобода" и его организаторам, то затем эта связь стала основанием для</a:t>
            </a:r>
            <a:r>
              <a:rPr b="1" i="1" lang="ru-RU" sz="2200" spc="-1" strike="noStrike">
                <a:solidFill>
                  <a:srgbClr val="ff6600"/>
                </a:solidFill>
                <a:latin typeface="Bookman Old Style"/>
              </a:rPr>
              <a:t> критического отношения и сомнений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 в благополучном завершении строительства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8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c6d80"/>
                </a:solidFill>
                <a:latin typeface="Bookman Old Style"/>
              </a:rPr>
              <a:t>"Мне кажется, все проблемы "Слободы" из-за того, что ее организаторы слишком понадеялись на нацпроект. Нацпроект – это пустышка, фикция, в нем нет ничего. Нет дешевых денег для строительства, нет схем финансирования и работы с населением и со строителями… Я не понимаю, что дал нацпроект, что сделала федеральная власть и областная для разрешения ключевой проблемы – финансирования строительства... Справедливо спрашивали: а с какой стати взялся Сбербанк? А почему не какой-нибудь иностранный, тот даже китайский банк?.. Тогда кто-то из ИРИА говорил: нужны гарантии – области или федерального бюджета. ВОТ! Почему нацпроект не смог обеспечить ХОТЯ БЫ эти самые гарантии?"</a:t>
            </a:r>
            <a:r>
              <a:rPr b="0" lang="ru-RU" sz="1700" spc="-1" strike="noStrike">
                <a:solidFill>
                  <a:srgbClr val="4c6d80"/>
                </a:solidFill>
                <a:latin typeface="Bookman Old Style"/>
              </a:rPr>
              <a:t>  (анонимное высказывание на интернет-форуме).</a:t>
            </a:r>
            <a:endParaRPr b="0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4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7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3.3. Динамика отношения к нацпроекту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6920" y="1375920"/>
            <a:ext cx="78138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Существует мнение, что </a:t>
            </a:r>
            <a:r>
              <a:rPr b="1" i="1" lang="ru-RU" sz="2200" spc="-1" strike="noStrike">
                <a:solidFill>
                  <a:srgbClr val="ff6600"/>
                </a:solidFill>
                <a:latin typeface="Bookman Old Style"/>
              </a:rPr>
              <a:t>нацпроект действует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, но его реализация на местах "хромает" в силу дефицита организационной, правовой, финансовой поддержки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c6d80"/>
                </a:solidFill>
                <a:latin typeface="Bookman Old Style"/>
              </a:rPr>
              <a:t>"Я ничего не понимаю про нацпроект, трудно ответить... Но очевидно – я как юрист – он поддерживается политически только, а дальше – разрыв между Медведевым, который отвечает за них, и вот этими строителями. Больше всего рисков у тех, кто конкретно работает, а вокруг них – пустота. Если это </a:t>
            </a:r>
            <a:r>
              <a:rPr b="0" i="1" lang="en-US" sz="1700" spc="-1" strike="noStrike">
                <a:solidFill>
                  <a:srgbClr val="4c6d80"/>
                </a:solidFill>
                <a:latin typeface="Bookman Old Style"/>
              </a:rPr>
              <a:t>&lt;</a:t>
            </a:r>
            <a:r>
              <a:rPr b="0" i="1" lang="ru-RU" sz="1700" spc="-1" strike="noStrike">
                <a:solidFill>
                  <a:srgbClr val="4c6d80"/>
                </a:solidFill>
                <a:latin typeface="Bookman Old Style"/>
              </a:rPr>
              <a:t>строительство "Слободы"</a:t>
            </a:r>
            <a:r>
              <a:rPr b="0" i="1" lang="en-US" sz="1700" spc="-1" strike="noStrike">
                <a:solidFill>
                  <a:srgbClr val="4c6d80"/>
                </a:solidFill>
                <a:latin typeface="Bookman Old Style"/>
              </a:rPr>
              <a:t>&gt;</a:t>
            </a:r>
            <a:r>
              <a:rPr b="0" i="1" lang="ru-RU" sz="1700" spc="-1" strike="noStrike">
                <a:solidFill>
                  <a:srgbClr val="4c6d80"/>
                </a:solidFill>
                <a:latin typeface="Bookman Old Style"/>
              </a:rPr>
              <a:t> нацпроект, то каждый из участников должен брать на себя ответственность за те заявленные задачи. Ну а что видим?.."  </a:t>
            </a:r>
            <a:r>
              <a:rPr b="0" lang="ru-RU" sz="1700" spc="-1" strike="noStrike">
                <a:solidFill>
                  <a:srgbClr val="4c6d80"/>
                </a:solidFill>
                <a:latin typeface="Bookman Old Style"/>
              </a:rPr>
              <a:t>(Светлана, 34 года, юрист).</a:t>
            </a:r>
            <a:endParaRPr b="0" lang="en-US" sz="17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c6d80"/>
                </a:solidFill>
                <a:latin typeface="Bookman Old Style"/>
              </a:rPr>
              <a:t>"Я слежу за "Слободой" с самого начала... И я вижу, как бы это… перевернутую ответственность. Строители хотят сделать этот проект, а у областной администрации – не получить по шапке в случае неудачи, а если повезет – удостоиться похвалы. А про дела других госструктур ничего не знаю, для них либо нацпроект – не указ, либо им просто не интересно, что происходит в конкретном месте, что за проблемы возникают у тех, кто решил вдруг продвигать нацпроект на местах" </a:t>
            </a:r>
            <a:r>
              <a:rPr b="0" lang="ru-RU" sz="1700" spc="-1" strike="noStrike">
                <a:solidFill>
                  <a:srgbClr val="4c6d80"/>
                </a:solidFill>
                <a:latin typeface="Bookman Old Style"/>
              </a:rPr>
              <a:t>(Анатолий, 36 лет, активист профсоюза). </a:t>
            </a:r>
            <a:endParaRPr b="0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7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3.3. Динамика отношения к нацпроекту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86920" y="1494000"/>
            <a:ext cx="7813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Bookman Old Style"/>
              </a:rPr>
              <a:t>Представления о Сбербанке</a:t>
            </a: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 как государственном банке </a:t>
            </a:r>
            <a:r>
              <a:rPr b="1" i="1" lang="ru-RU" sz="2000" spc="-1" strike="noStrike">
                <a:solidFill>
                  <a:srgbClr val="ff6600"/>
                </a:solidFill>
                <a:latin typeface="Bookman Old Style"/>
              </a:rPr>
              <a:t>соединяются с представлениями о нацпроекте</a:t>
            </a:r>
            <a:r>
              <a:rPr b="0" lang="ru-RU" sz="2000" spc="-1" strike="noStrike">
                <a:solidFill>
                  <a:srgbClr val="4c6d80"/>
                </a:solidFill>
                <a:latin typeface="Bookman Old Style"/>
              </a:rPr>
              <a:t> как государственном проекте: недовольство действиями первого приводит к сомнениям в эффективности  второго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1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4c6d80"/>
                </a:solidFill>
                <a:latin typeface="Bookman Old Style"/>
              </a:rPr>
              <a:t>"Я не знаю, что сейчас делать ИРИА и другим организаторам строительства… Расплачиваться придется и нам – своими деньгами за упущенное время и выросшие цены, и им – и деньгами, и репутацией… По моему мнению, "Слободу" построили бы быстрее и проще, если бы не надежды на нацпроект. Вот ответьте мне на вопрос: почему для Сбербанка – государственной, между прочим, структуры – нацпроект не является гарантией? Почему Сбербанк требует (ну, или рекомендует) повысить стоимость метра, с которой выходят на него строители? Почему Сбербанк – государственная структура – хочет просто денег, а не решения социальной проблемы?"</a:t>
            </a:r>
            <a:r>
              <a:rPr b="0" lang="ru-RU" sz="1700" spc="-1" strike="noStrike">
                <a:solidFill>
                  <a:srgbClr val="4c6d80"/>
                </a:solidFill>
                <a:latin typeface="Bookman Old Style"/>
              </a:rPr>
              <a:t>  (анонимное высказывание на интернет-форуме).</a:t>
            </a:r>
            <a:endParaRPr b="0" lang="en-US" sz="17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0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3.4. Суждения о Сбербанке и нацпроекте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42920" y="1600200"/>
            <a:ext cx="76694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58920" y="22536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1" lang="ru-RU" sz="4200" spc="-1" strike="noStrike">
                <a:solidFill>
                  <a:srgbClr val="4c6d80"/>
                </a:solidFill>
                <a:latin typeface="Bookman Old Style"/>
              </a:rPr>
              <a:t>Выводы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   </a:t>
            </a: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Социальная значимост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  </a:t>
            </a: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"Иннокентьевская слобода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71280" y="1851120"/>
            <a:ext cx="7885080" cy="4349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Социальная значимость проекта "Инноккентьевская слобода" складывается из нескольких моментов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c6d80"/>
                </a:solidFill>
                <a:latin typeface="Bookman Old Style"/>
              </a:rPr>
              <a:t>Институциональный эффект: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 разрабатываются и оформляются алгоритмы действий и принятия решений, а также происходит их апробация на практике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c6d80"/>
                </a:solidFill>
                <a:latin typeface="Bookman Old Style"/>
              </a:rPr>
              <a:t>Социальный эффект: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 во взаимодействие оказываются включены самые разные социальные субъекты, и им приходится координировать свои действия с учетом интересов и возможностей друг друга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9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c6d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 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Социальная значимость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971280" y="1851120"/>
            <a:ext cx="7885080" cy="4349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414"/>
              </a:spcBef>
              <a:buClr>
                <a:srgbClr val="4c6d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Уход от долевого участия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покупателей квартир в строительстве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414"/>
              </a:spcBef>
              <a:buClr>
                <a:srgbClr val="4c6d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Возможность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решить жилищную проблему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для тех групп, которые принято относить к "среднему классу"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414"/>
              </a:spcBef>
              <a:buClr>
                <a:srgbClr val="4c6d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Адекватное предложение в ситуации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развивающегося платежеспособного спроса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населения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414"/>
              </a:spcBef>
              <a:buClr>
                <a:srgbClr val="4c6d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Стимулирование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ответственного финансового поведения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у покупателей-заявителей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2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18900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c6d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 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Значимость для покупателя квартиры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008000" y="1744200"/>
            <a:ext cx="7848720" cy="47451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2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Возможность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формировать поселенческие сообщества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(ТСЖ) на стадии сбора заявок и строительства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82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Новая функция ипотечного агентства: агентство как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менеджер отношений</a:t>
            </a:r>
            <a:r>
              <a:rPr b="0" lang="en-US" sz="2200" spc="-1" strike="noStrike">
                <a:solidFill>
                  <a:srgbClr val="ff66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заявителей как между собой, так и со строителями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82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Создание механизма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для реализации целевых программ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по предоставлению жилищных субсидий (молодые семьи, переселенцы, военные и т.д.) по схемам со сниженными рисками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82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Формирование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институционального доверия</a:t>
            </a:r>
            <a:r>
              <a:rPr b="0" lang="en-US" sz="2200" spc="-1" strike="noStrike">
                <a:solidFill>
                  <a:srgbClr val="ff66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у жителей и населения в целом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5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c6d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  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Значимость для самоуправления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319640" y="6489720"/>
            <a:ext cx="4633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08000" y="349200"/>
            <a:ext cx="7812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c6d80"/>
                </a:solidFill>
                <a:latin typeface="Bookman Old Style"/>
              </a:rPr>
              <a:t>Раздел 3. Содержание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3.1. Национальный проект "Доступное жилье" для "Иннокентьевской слободы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3.2. "Иннокентьевская слобода" для национального проекта "Доступное жиль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3.3. Ипотечные заемщики о национальном проекте "Доступное жиль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34560" y="1852560"/>
            <a:ext cx="7921800" cy="4168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550"/>
              </a:spcBef>
              <a:buClr>
                <a:srgbClr val="4c6d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Отработка и запуск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рыночных механизмов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550"/>
              </a:spcBef>
              <a:buClr>
                <a:srgbClr val="4c6d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Реализация принципов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социальной ответственности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в бизнесе, доказательство, что это может быть коммерчески выгодным и эффективным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550"/>
              </a:spcBef>
              <a:buClr>
                <a:srgbClr val="4c6d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Фундаментальная ориентация не на норму прибыли, а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на величину спроса и платежеспособность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потребителей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550"/>
              </a:spcBef>
              <a:buClr>
                <a:srgbClr val="4c6d8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Заострение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проблемы обременений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со стороны местных органов власти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8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8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c6d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 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Значимость для сферы жилищного строительства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008000" y="1591920"/>
            <a:ext cx="7848720" cy="4924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27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Стимул к изменению</a:t>
            </a:r>
            <a:r>
              <a:rPr b="0" i="1" lang="en-US" sz="2200" spc="-1" strike="noStrike">
                <a:solidFill>
                  <a:srgbClr val="4c6d80"/>
                </a:solidFill>
                <a:latin typeface="Bookman Old Style"/>
              </a:rPr>
              <a:t>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сути и смысла программ ипотечного кредитования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: гарантированный сбыт без ценовых катастроф и ажиотажного роста цен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27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Обязательная привязка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ипотечных программ к программам строительным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27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Уход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от субсидиарных схем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в ипотеке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27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Противодействие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спекулятивным схемам 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на рынке строящегося жилья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27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Реализованное на уровне процедур </a:t>
            </a: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"охлаждение" рынка жилья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 (в первую очередь – вторичного)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444600" indent="-444600">
              <a:spcBef>
                <a:spcPts val="275"/>
              </a:spcBef>
              <a:buClr>
                <a:srgbClr val="4c6d8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6600"/>
                </a:solidFill>
                <a:latin typeface="Bookman Old Style"/>
              </a:rPr>
              <a:t>Новая функция ипотечного агентства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: мониторинг жилищной ситуации и оценка величины спроса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1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8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c6d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  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Значимость для институтов ипотеки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	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Проект "Иннокентьевская слобода" – прецедент того, как усилиями социальных новаторов через создание новых систем правил меняются социальные институты (в данном случае – связанные со сферой жилищного строительства). 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4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19280" y="189000"/>
            <a:ext cx="70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c6d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  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Изменение систем правил</a:t>
            </a:r>
            <a:br>
              <a:rPr sz="2000"/>
            </a:b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403280" y="1592280"/>
            <a:ext cx="7453440" cy="4789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Социальная ответственность как бизнес</a:t>
            </a:r>
            <a:r>
              <a:rPr b="0" lang="en-US" sz="2200" spc="-1" strike="noStrike">
                <a:solidFill>
                  <a:srgbClr val="4c6d80"/>
                </a:solidFill>
                <a:latin typeface="Bookman Old Style"/>
              </a:rPr>
              <a:t>-</a:t>
            </a: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стратегия оказывается не только экономически эффективной, но может создавать прецеденты позитивной социальной интеграции и солидаризации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c6d80"/>
                </a:solidFill>
                <a:latin typeface="Bookman Old Style"/>
              </a:rPr>
              <a:t>"Иннокентьевская слобода" – пример того, как внутренняя логика реализации проекта приводит к необходимости социальной работы – систематической работы с заявителями, не ограничивающейся лишь рамками ипотечной проблематики.</a:t>
            </a: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7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19280" y="18900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c6d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   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Социальная ответственность бизнеса</a:t>
            </a: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42920" y="1600200"/>
            <a:ext cx="76694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c6d80"/>
                </a:solidFill>
                <a:latin typeface="Bookman Old Styl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38200" y="2816280"/>
            <a:ext cx="73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c6d80"/>
                </a:solidFill>
                <a:latin typeface="Bookman Old Style"/>
              </a:rPr>
              <a:t>3.1. Национальный проект "Доступное жилье" для "Иннокентьевской слободы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6328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c6d80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7280" y="1599840"/>
            <a:ext cx="76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7272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Национальный проект "Доступное жилье" сыграл роль </a:t>
            </a:r>
            <a:r>
              <a:rPr b="1" i="1" lang="ru-RU" sz="2400" spc="-1" strike="noStrike">
                <a:solidFill>
                  <a:srgbClr val="ff6600"/>
                </a:solidFill>
                <a:latin typeface="Bookman Old Style"/>
              </a:rPr>
              <a:t>внешнего ресурса</a:t>
            </a: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 по отношению ко вполне сложившемуся и самостоятельно рожденному проекту "Иннокентьевская слобода" и на определенном этапе стал </a:t>
            </a:r>
            <a:r>
              <a:rPr b="1" i="1" lang="ru-RU" sz="2400" spc="-1" strike="noStrike">
                <a:solidFill>
                  <a:srgbClr val="ff6600"/>
                </a:solidFill>
                <a:latin typeface="Bookman Old Style"/>
              </a:rPr>
              <a:t>фактором стабильности внешней ситуации</a:t>
            </a: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6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6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189000"/>
            <a:ext cx="65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1.1. Значение ПНП "Доступное жиль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7272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"Иннокентьевская слобода" – это </a:t>
            </a:r>
            <a:r>
              <a:rPr b="1" i="1" lang="ru-RU" sz="2400" spc="-1" strike="noStrike">
                <a:solidFill>
                  <a:srgbClr val="ff6600"/>
                </a:solidFill>
                <a:latin typeface="Bookman Old Style"/>
              </a:rPr>
              <a:t>пилотный проект в рамках НП "Доступное жилье"</a:t>
            </a: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. На его примере </a:t>
            </a:r>
            <a:r>
              <a:rPr b="0" i="1" lang="ru-RU" sz="2400" spc="-1" strike="noStrike">
                <a:solidFill>
                  <a:srgbClr val="4c6d80"/>
                </a:solidFill>
                <a:latin typeface="Bookman Old Style"/>
              </a:rPr>
              <a:t>практически </a:t>
            </a: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отрабатываются организационные механизмы и принципы, вскрываются трудности и проблемные ситуации и прорабатываются способы их решения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9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6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189000"/>
            <a:ext cx="65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1.1. Значение ПНП "Доступное жиль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727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Эффективность и действенность национального проекта "Доступное жилье" оценивается по успехам и проблемам, возникающим в ходе строительства, а также по эффективности разрешения возникающих трудностей. Основным </a:t>
            </a:r>
            <a:r>
              <a:rPr b="1" i="1" lang="ru-RU" sz="2400" spc="-1" strike="noStrike">
                <a:solidFill>
                  <a:srgbClr val="ff6600"/>
                </a:solidFill>
                <a:latin typeface="Bookman Old Style"/>
              </a:rPr>
              <a:t>субъектом оценки нацпроекта являются ипотечные заемщики</a:t>
            </a:r>
            <a:r>
              <a:rPr b="0" lang="ru-RU" sz="2400" spc="-1" strike="noStrike">
                <a:solidFill>
                  <a:srgbClr val="4c6d80"/>
                </a:solidFill>
                <a:latin typeface="Bookman Old Style"/>
              </a:rPr>
              <a:t> – участники проекта "Иннокентьевская слобода"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2" name=""/>
          <p:cNvSpPr/>
          <p:nvPr/>
        </p:nvSpPr>
        <p:spPr>
          <a:xfrm>
            <a:off x="4467240" y="6597720"/>
            <a:ext cx="428760" cy="182880"/>
          </a:xfrm>
          <a:prstGeom prst="rect">
            <a:avLst/>
          </a:prstGeom>
          <a:solidFill>
            <a:srgbClr val="e5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6d80"/>
                </a:solidFill>
                <a:latin typeface="Bookman Old Style"/>
              </a:rPr>
              <a:t>16</a:t>
            </a:r>
            <a:r>
              <a:rPr b="1" lang="en-US" sz="1200" spc="-1" strike="noStrike">
                <a:solidFill>
                  <a:srgbClr val="4c6d80"/>
                </a:solidFill>
                <a:latin typeface="Bookman Old Style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9280" y="189000"/>
            <a:ext cx="65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6d80"/>
                </a:solidFill>
                <a:latin typeface="Bookman Old Style"/>
              </a:rPr>
              <a:t>3.1.1. Значение ПНП "Доступное жиль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6T15:32:12Z</dcterms:created>
  <dc:creator>.</dc:creator>
  <dc:description/>
  <dc:language>en-US</dc:language>
  <cp:lastModifiedBy>Danilova</cp:lastModifiedBy>
  <dcterms:modified xsi:type="dcterms:W3CDTF">2008-01-29T13:17:08Z</dcterms:modified>
  <cp:revision>222</cp:revision>
  <dc:subject/>
  <dc:title>Слайд 1</dc:title>
</cp:coreProperties>
</file>